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045A-C52D-4E0C-BC25-A54A74E7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78CB-F0D3-47C1-95CA-13A1D33A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496D-94B3-471C-9612-D7A2A2F9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BDB1-6C39-4C51-9641-DDC76D06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B2B4-4F79-4995-AADF-0037824C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1630-A1DF-4B04-835E-3AFB117C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DB72-38D2-4E06-8A23-2A770DF5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838C-CA06-4FB1-80D3-B336B61E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9758-A837-4C3E-806D-71925E84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EA54-8C9B-4D0D-8DBD-D4122963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1EA7-4F79-4418-9302-DC08EDC5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A78A-6D68-4036-83EF-BD10AC83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0509-FC7A-4246-971A-F35A514D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61E1-4512-4BF1-8D07-CCC0FAA2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59D9-86BB-48AF-B145-F92AD70E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AB42-457E-489D-8BF3-F3690E19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6787-FC70-456B-B7E0-4E48E2F4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0882-CD74-4BDC-B06F-36967015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8D9A-3590-457B-9A26-D4D46727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4368-1266-478B-8CF3-FE3ED24A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3E37-71F1-4A9B-AD39-E21B86EE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C085-1C82-4991-8615-7FCED81B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C408-0904-40D1-97FF-96B4BF40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A070-9CFA-456F-BA4C-C205ADA2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C3E5-C98D-4A58-A25C-7BBC70A2BD1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5815-891B-4D27-BC10-9C155B9ABDA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DEA OF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42F62629-1886-44AB-BC73-47D8EBB0938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66840" y="1274760"/>
            <a:ext cx="8062920" cy="50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Joh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14.1: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πιστευετε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 εἰς τον θεον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– you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believ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in G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Joh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11.48: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παντες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πιστευσουσιν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 εἰς αὐτον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– everyon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will believ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in h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Joh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7.5: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οἱ ἀδελφοι αὐτου  ἐπιστευον εἰς αὐτο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is brothers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were believing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in h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Joh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4.50: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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ἐπιστευσεν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 ὁ ἀνθρωπος τῳ λογῳ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– the m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believe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he w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terations in a verb change its tense: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πιστευετε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– believe;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πιστευ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σ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ουσιν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– will believe; </a:t>
            </a:r>
            <a:r>
              <a:rPr b="0" lang="en-GB" sz="25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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ἐ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πιστευον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were believing; </a:t>
            </a:r>
            <a:r>
              <a:rPr b="0" lang="en-GB" sz="25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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ἐ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πιστευ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σ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εν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– believ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952560" y="1785960"/>
            <a:ext cx="72388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5.1 Words beginning with a vow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42960" y="3143160"/>
            <a:ext cx="6058080" cy="177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Watch out when an 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</a:t>
            </a:r>
            <a:r>
              <a:rPr b="1" lang="el-GR" sz="40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l-GR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3500" spc="-1" strike="noStrike">
                <a:solidFill>
                  <a:srgbClr val="000000"/>
                </a:solidFill>
                <a:latin typeface="Arial"/>
              </a:rPr>
              <a:t>augment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) is added to a word beginning with a vowel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BE96C50C-A536-4214-A456-5B609919CD5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070BE6E9-6626-4BA5-A19B-2643CDCA23D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428840" y="5000760"/>
          <a:ext cx="6229440" cy="1066680"/>
        </p:xfrm>
        <a:graphic>
          <a:graphicData uri="http://schemas.openxmlformats.org/drawingml/2006/table">
            <a:tbl>
              <a:tblPr/>
              <a:tblGrid>
                <a:gridCol w="566640"/>
                <a:gridCol w="565200"/>
                <a:gridCol w="566640"/>
                <a:gridCol w="566640"/>
                <a:gridCol w="565200"/>
                <a:gridCol w="568440"/>
                <a:gridCol w="565200"/>
                <a:gridCol w="566640"/>
                <a:gridCol w="566640"/>
                <a:gridCol w="565200"/>
                <a:gridCol w="5670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ι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ῳ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η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η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2"/>
          <p:cNvSpPr/>
          <p:nvPr/>
        </p:nvSpPr>
        <p:spPr>
          <a:xfrm>
            <a:off x="500040" y="4324320"/>
            <a:ext cx="458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pthongs follow the cha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01800" y="1428840"/>
          <a:ext cx="7358040" cy="2428920"/>
        </p:xfrm>
        <a:graphic>
          <a:graphicData uri="http://schemas.openxmlformats.org/drawingml/2006/table">
            <a:tbl>
              <a:tblPr/>
              <a:tblGrid>
                <a:gridCol w="1104840"/>
                <a:gridCol w="2181240"/>
                <a:gridCol w="1666800"/>
                <a:gridCol w="2405160"/>
              </a:tblGrid>
              <a:tr h="6080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reek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reek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c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c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c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υ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reek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ai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υ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reek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Box 6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B5916081-A6DE-4B8B-8EB7-A1B524A3F1D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098800" y="1843200"/>
            <a:ext cx="4800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5.2 Compoun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643040" y="3000240"/>
            <a:ext cx="5791320" cy="1694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Watch out when an 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™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GB" sz="3500" spc="-1" strike="noStrike">
                <a:solidFill>
                  <a:srgbClr val="000000"/>
                </a:solidFill>
                <a:latin typeface="Arial"/>
              </a:rPr>
              <a:t>augment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) is added to a compound verb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12680" y="1928880"/>
          <a:ext cx="8929800" cy="3357360"/>
        </p:xfrm>
        <a:graphic>
          <a:graphicData uri="http://schemas.openxmlformats.org/drawingml/2006/table">
            <a:tbl>
              <a:tblPr/>
              <a:tblGrid>
                <a:gridCol w="1365120"/>
                <a:gridCol w="1621080"/>
                <a:gridCol w="2344680"/>
                <a:gridCol w="359892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ολυ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ελυ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as setting f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ο - ελυον</a:t>
                      </a: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βαλλ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ξεβαλλ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as throwing ou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 - εβαλλον</a:t>
                      </a: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ὑπαγ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ὑπηγ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as depar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ὑπο - εαγον</a:t>
                      </a: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→ </a:t>
                      </a: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ὑπο - ηγ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υναγ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υνηγ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as gathe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υν - εαγον</a:t>
                      </a: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→ </a:t>
                      </a: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υν - ηγ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122"/>
          <p:cNvSpPr/>
          <p:nvPr/>
        </p:nvSpPr>
        <p:spPr>
          <a:xfrm>
            <a:off x="304920" y="127944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1D58DD2C-D170-452C-A43E-FA0A0A35995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500040" y="1565280"/>
            <a:ext cx="8001000" cy="3935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i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Observe the difference between </a:t>
            </a:r>
            <a:r>
              <a:rPr b="0" i="1" lang="en-GB" sz="2900" spc="-1" strike="noStrike">
                <a:solidFill>
                  <a:srgbClr val="000000"/>
                </a:solidFill>
                <a:latin typeface="Arial"/>
              </a:rPr>
              <a:t>contractions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900" spc="-1" strike="noStrike">
                <a:solidFill>
                  <a:srgbClr val="000000"/>
                </a:solidFill>
                <a:latin typeface="Arial"/>
              </a:rPr>
              <a:t>elision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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</a:rPr>
              <a:t>+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ἀγον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</a:rPr>
              <a:t> →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ἠγον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tium"/>
              </a:rPr>
              <a:t>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</a:rPr>
              <a:t> +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ἀναβλεπον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</a:rPr>
              <a:t> →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ἀνεβλεπον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</a:rPr>
              <a:t> +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ἀναγον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</a:rPr>
              <a:t> →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ἀνηγο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031F32CD-F282-4E75-BB7C-3A3B15B3989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973080" y="1504800"/>
            <a:ext cx="7143840" cy="1740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Watch out when an </a:t>
            </a:r>
            <a:r>
              <a:rPr b="1" lang="el-GR" sz="38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 is added to stem of a verb ending in a consonant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0200" y="3786120"/>
          <a:ext cx="4157640" cy="1736640"/>
        </p:xfrm>
        <a:graphic>
          <a:graphicData uri="http://schemas.openxmlformats.org/drawingml/2006/table">
            <a:tbl>
              <a:tblPr/>
              <a:tblGrid>
                <a:gridCol w="1994040"/>
                <a:gridCol w="525600"/>
                <a:gridCol w="493560"/>
                <a:gridCol w="654120"/>
                <a:gridCol w="4903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γ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Box 3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SUFF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6DD4E688-3844-443A-BB0A-DA84D4C64E6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85840" y="1643040"/>
          <a:ext cx="8572320" cy="2422440"/>
        </p:xfrm>
        <a:graphic>
          <a:graphicData uri="http://schemas.openxmlformats.org/drawingml/2006/table">
            <a:tbl>
              <a:tblPr/>
              <a:tblGrid>
                <a:gridCol w="1812960"/>
                <a:gridCol w="2259000"/>
                <a:gridCol w="2387520"/>
                <a:gridCol w="2112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F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λεπ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λεψω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ll 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λεπ - σ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πτιζω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πτισω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ll bapt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πτζ - σ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νοιγω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νοιξ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ll op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νοιγ - σ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7"/>
          <p:cNvSpPr/>
          <p:nvPr/>
        </p:nvSpPr>
        <p:spPr>
          <a:xfrm>
            <a:off x="252360" y="11365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0"/>
          <p:cNvSpPr/>
          <p:nvPr/>
        </p:nvSpPr>
        <p:spPr>
          <a:xfrm>
            <a:off x="714240" y="4259160"/>
            <a:ext cx="7572600" cy="186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ause the Aorist involves the addition of th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efix and th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uffix, both sets of complications can occur. Thus the aorist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οιγ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ἠνοιξα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εα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οι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γσα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SUFF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90C41673-8A3B-4A96-B0C7-DC8EEE30982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1000080" y="1212840"/>
            <a:ext cx="63914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ἠγον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 really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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ἐ - ἀγον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d thus is an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mperfec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νοιξω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 really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νοιγ - σω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d thus a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73200" y="2438280"/>
            <a:ext cx="7810560" cy="1570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ery few verbs begin with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η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ω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or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most no verbs end in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ψ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ξ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or a single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oris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914400" y="4191120"/>
            <a:ext cx="731520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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ἐχω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I have) is unusu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mperfec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εἰχον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being augmented to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εἰ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 not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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ἑξω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χ 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+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 σ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 ξ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s expected, but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ἑ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 not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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73080" y="41400"/>
            <a:ext cx="89852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EALING WITH THE PREFIX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SUF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00484DEA-DDC2-4C1B-A4F3-1C9D2B92A3B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952560" y="2214720"/>
            <a:ext cx="723888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Future and the Aorist the addition of th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uffix causes two cha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) Th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lengthen to a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i) The endings are now be next to th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ot the weak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so there are no contr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73080" y="258840"/>
            <a:ext cx="898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8 TENSES IN THE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-εω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9ED0B92F-6C32-4CAC-B220-B54BE2EA2F7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3"/>
          <p:cNvSpPr/>
          <p:nvPr/>
        </p:nvSpPr>
        <p:spPr>
          <a:xfrm>
            <a:off x="73080" y="258840"/>
            <a:ext cx="898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8 TENSES IN THE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-εω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CCC2A8B6-F024-48C3-BE42-ED542C57ABB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5440" y="1357200"/>
          <a:ext cx="8475840" cy="4741920"/>
        </p:xfrm>
        <a:graphic>
          <a:graphicData uri="http://schemas.openxmlformats.org/drawingml/2006/table">
            <a:tbl>
              <a:tblPr/>
              <a:tblGrid>
                <a:gridCol w="1695600"/>
                <a:gridCol w="1693800"/>
                <a:gridCol w="1695240"/>
                <a:gridCol w="1695600"/>
                <a:gridCol w="1695600"/>
              </a:tblGrid>
              <a:tr h="65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ησ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ιλου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ιλησ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(s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ησ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ιλ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ιλησ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, she,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ησ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ιλ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ιλησ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ου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ησ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ιλου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ιλησα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(pl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ει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ησ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ιλει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ιλησα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ουσιν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ουσ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ησου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ιλου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ιλησ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214200" y="1214280"/>
            <a:ext cx="871560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ur Tenses: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sent, Future, Imperfect, Aori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ifferent tenses communicate bot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)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im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 action is taking place (present, future, past etc.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)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the nature of the action – was it a process? is it completed? etc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σ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ομεν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ote added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‘w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i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ntie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DEA OF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55CC3CE8-103A-4A0A-9875-59E6B343281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A16165A1-D2A6-4ABC-9DAA-3B03497EE1A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87400" y="1511280"/>
          <a:ext cx="6899400" cy="2631960"/>
        </p:xfrm>
        <a:graphic>
          <a:graphicData uri="http://schemas.openxmlformats.org/drawingml/2006/table">
            <a:tbl>
              <a:tblPr/>
              <a:tblGrid>
                <a:gridCol w="1565280"/>
                <a:gridCol w="1795320"/>
                <a:gridCol w="739800"/>
                <a:gridCol w="700200"/>
                <a:gridCol w="600120"/>
                <a:gridCol w="14986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se: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211"/>
          <p:cNvSpPr/>
          <p:nvPr/>
        </p:nvSpPr>
        <p:spPr>
          <a:xfrm>
            <a:off x="785880" y="4572000"/>
            <a:ext cx="71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different tenses are formed b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dding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prefixe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suffixe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to the st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y having a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different set of ending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179280" y="1173240"/>
            <a:ext cx="8329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efixes and suffixes are the easiest to sp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wo past tenses (Aorist and Imperfect) have an </a:t>
            </a:r>
            <a:r>
              <a:rPr b="1" lang="el-GR" sz="27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efix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ugment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uture and the Aorist both have a </a:t>
            </a:r>
            <a:r>
              <a:rPr b="1" lang="el-GR" sz="27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uff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886040" y="3289320"/>
          <a:ext cx="5400720" cy="2682720"/>
        </p:xfrm>
        <a:graphic>
          <a:graphicData uri="http://schemas.openxmlformats.org/drawingml/2006/table">
            <a:tbl>
              <a:tblPr/>
              <a:tblGrid>
                <a:gridCol w="1203120"/>
                <a:gridCol w="816120"/>
                <a:gridCol w="1523880"/>
                <a:gridCol w="333360"/>
                <a:gridCol w="15242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suf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uf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</a:t>
                      </a:r>
                      <a:r>
                        <a:rPr b="1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suf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</a:t>
                      </a:r>
                      <a:r>
                        <a:rPr b="1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uf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42E9F4CF-4387-482A-9EC1-878AA8DE67A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2125C4CE-24C7-458B-9130-2D151BA1B85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34920" y="1217520"/>
          <a:ext cx="7272360" cy="3568680"/>
        </p:xfrm>
        <a:graphic>
          <a:graphicData uri="http://schemas.openxmlformats.org/drawingml/2006/table">
            <a:tbl>
              <a:tblPr/>
              <a:tblGrid>
                <a:gridCol w="1785960"/>
                <a:gridCol w="1219320"/>
                <a:gridCol w="1752480"/>
                <a:gridCol w="2514600"/>
              </a:tblGrid>
              <a:tr h="70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k Te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 Equival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m unty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a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29"/>
          <p:cNvSpPr/>
          <p:nvPr/>
        </p:nvSpPr>
        <p:spPr>
          <a:xfrm>
            <a:off x="800280" y="4884840"/>
            <a:ext cx="754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undefin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spect may be used for two reas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implication as to manner of a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nctilliar (‘one time’) se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428760" y="1285920"/>
            <a:ext cx="7272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ifference between the Imperfect and the Aor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: Un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I unt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erfect: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I used to u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I was unt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I began to u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455760" y="4986360"/>
            <a:ext cx="8116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atthe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5.2: He opened his mouth (Aorist) and began to teach (Imperfec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62194C4C-F90C-411D-B73D-5964C0C4F90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95120" y="1357200"/>
          <a:ext cx="8734680" cy="3286080"/>
        </p:xfrm>
        <a:graphic>
          <a:graphicData uri="http://schemas.openxmlformats.org/drawingml/2006/table">
            <a:tbl>
              <a:tblPr/>
              <a:tblGrid>
                <a:gridCol w="865440"/>
                <a:gridCol w="2138400"/>
                <a:gridCol w="1860480"/>
                <a:gridCol w="2325600"/>
                <a:gridCol w="154476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m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a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i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wa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we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we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249"/>
          <p:cNvSpPr/>
          <p:nvPr/>
        </p:nvSpPr>
        <p:spPr>
          <a:xfrm>
            <a:off x="509760" y="4756320"/>
            <a:ext cx="5562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erson sing. is ‘he’, ‘she’, or ‘it’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 can be ‘I loosen’, ‘You loosen’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erfect can be 'I used to untie'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D26241A3-15A2-43C3-A3E7-709AAD44895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500040" y="1192320"/>
          <a:ext cx="8210520" cy="3139920"/>
        </p:xfrm>
        <a:graphic>
          <a:graphicData uri="http://schemas.openxmlformats.org/drawingml/2006/table">
            <a:tbl>
              <a:tblPr/>
              <a:tblGrid>
                <a:gridCol w="1546200"/>
                <a:gridCol w="1663920"/>
                <a:gridCol w="1800000"/>
                <a:gridCol w="1560600"/>
                <a:gridCol w="16398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 - 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 - 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 - 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σ - 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(sing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 - 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 - 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 - 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σ - 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, she,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 - 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 - 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 - ε(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σ - ε(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 - 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 - 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 - 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σ - α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(pl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 - ετ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 - 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 - 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σ - α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 - ουσι(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 - ουσι(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 - 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σ - 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165"/>
          <p:cNvSpPr/>
          <p:nvPr/>
        </p:nvSpPr>
        <p:spPr>
          <a:xfrm>
            <a:off x="304920" y="4335480"/>
            <a:ext cx="8534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ture endings = Present e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, Future, Imperfect begin with ‘o’ or ‘e’ sound, Aorist with ‘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erson pl. simi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vabl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Imperfect and Aorist 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erson sing., as in Present and Future 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erson p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4D59F09A-A89A-4AE7-B9EA-126DB610A88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285840" y="1143000"/>
            <a:ext cx="8501040" cy="52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Gentium"/>
              </a:rPr>
              <a:t>ὁ Ἰησους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ἐδιδασκεν</a:t>
            </a:r>
            <a:r>
              <a:rPr b="1" lang="el-GR" sz="2400" spc="-1" strike="noStrike">
                <a:solidFill>
                  <a:srgbClr val="000000"/>
                </a:solidFill>
                <a:latin typeface="Gentium"/>
              </a:rPr>
              <a:t> ἐν τῃ συναγωγῃ και πολλοι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ἐπιστευσαν</a:t>
            </a:r>
            <a:r>
              <a:rPr b="1" lang="el-GR" sz="24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 u="sng">
                <a:solidFill>
                  <a:srgbClr val="000000"/>
                </a:solidFill>
                <a:uFillTx/>
                <a:latin typeface="Gentium"/>
              </a:rPr>
              <a:t>ἐδιδασκεν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mperfect, therefore describing a past process – 'Jesus was in the process of teaching in the synagogue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 u="sng">
                <a:solidFill>
                  <a:srgbClr val="000000"/>
                </a:solidFill>
                <a:uFillTx/>
                <a:latin typeface="Gentium"/>
              </a:rPr>
              <a:t>ἐπιστευσαν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Aorist, therefore describing a past undefined (not a process) action – 'many believed' or 'many came to believe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Jesus was teaching in the synagogue and many believed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Gentium"/>
              </a:rPr>
              <a:t>ὁ θεος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ἐπεμπεν</a:t>
            </a:r>
            <a:r>
              <a:rPr b="1" lang="el-GR" sz="2400" spc="-1" strike="noStrike">
                <a:solidFill>
                  <a:srgbClr val="000000"/>
                </a:solidFill>
                <a:latin typeface="Gentium"/>
              </a:rPr>
              <a:t> τους ἀγγελους. ἀλλα νυν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ἐσμεν</a:t>
            </a:r>
            <a:r>
              <a:rPr b="1" lang="el-GR" sz="2400" spc="-1" strike="noStrike">
                <a:solidFill>
                  <a:srgbClr val="000000"/>
                </a:solidFill>
                <a:latin typeface="Gentium"/>
              </a:rPr>
              <a:t> μονο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 u="sng">
                <a:solidFill>
                  <a:srgbClr val="000000"/>
                </a:solidFill>
                <a:uFillTx/>
                <a:latin typeface="Gentium"/>
              </a:rPr>
              <a:t>ἐπεμπεν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mperfect, therefore describing a past process – 'God used to send messengers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 u="sng">
                <a:solidFill>
                  <a:srgbClr val="000000"/>
                </a:solidFill>
                <a:uFillTx/>
                <a:latin typeface="Gentium"/>
              </a:rPr>
              <a:t>ἐσμεν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Present, therefore describing the current situation – 'we are alone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God used to send messengers, but now we are al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:Grammar </a:t>
            </a:r>
            <a:fld id="{6B925034-00FF-4F95-AF56-87C56B61BF1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8:15:50Z</dcterms:created>
  <dc:creator>Sarah</dc:creator>
  <dc:description/>
  <dc:language>en-US</dc:language>
  <cp:lastModifiedBy>Sarah</cp:lastModifiedBy>
  <dcterms:modified xsi:type="dcterms:W3CDTF">2009-07-10T22:46:57Z</dcterms:modified>
  <cp:revision>64</cp:revision>
  <dc:subject/>
  <dc:title>Slide 1</dc:title>
</cp:coreProperties>
</file>